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C78-D678-4C41-83D7-CD83519D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C0B-13BA-4485-900C-25C685F6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FC9-7F5D-448F-B1C8-F5EF88F5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D09-D016-438B-AC43-80606CFD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EE2-F2E3-4802-873A-556CF921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8A3-3DDB-42DF-BB8A-E2E4155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CC3-BED7-4D3D-8B09-22FA53B0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68E-F7F4-407F-B18E-6AF7A0B3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B13-FAB5-4ABE-9531-77D4EC68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847-CF8A-458F-8B8E-97A990EB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20C-D543-483F-B06F-090C990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15C-F9F6-4226-B3DD-83A162B7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DAAE-A5EF-446A-89A0-C28911AED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000000"/>
                </a:solidFill>
                <a:latin typeface="Comic Sans MS"/>
              </a:rPr>
              <a:t>L’Afrique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3386160"/>
            <a:ext cx="33526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’Afrique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’Afrique est divisée en plusieurs pa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’Afrique du nord (qui comprend le 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désert du Sahar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’Afrique de l’O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’Afrique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’Afrique Ori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’Afrique australe (Afrique du s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3429000"/>
            <a:ext cx="18511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’Afrique et ses cout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En Afrique du sud, les vacances de Noël sont comme nos vacances d’été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plupart des pays d’Afrique, célèbrent Noël au grand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côte ouest africaine décorent leurs palmiers et n’ont pas d’arbres de Noë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En Afrique, reçevoir des cadeaux n’est pas vraiment populaire; c’est surtout la présence qui comp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69080" y="5486400"/>
            <a:ext cx="127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9:27:44Z</dcterms:created>
  <dc:creator>nbdoe</dc:creator>
  <dc:description/>
  <dc:language>en-US</dc:language>
  <cp:lastModifiedBy>nbdoe</cp:lastModifiedBy>
  <dcterms:modified xsi:type="dcterms:W3CDTF">2008-12-05T19:40:29Z</dcterms:modified>
  <cp:revision>2</cp:revision>
  <dc:subject/>
  <dc:title>L’Afrique politique</dc:title>
</cp:coreProperties>
</file>